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65D0-AAD1-45F6-AA47-47BFF123569E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9701-64C5-40D3-AB4F-B2EEC6F44009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0A8D-3DF3-4EFB-B142-C6AABDDF55DE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E541-9C13-409A-8DA1-CBE02737BF9D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5DF9-3013-4CA7-AD99-EBAE12BE3797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0EDB-6E34-40C9-BF3B-A0A12C9347E5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33B6-0CE4-42DC-8C99-BA636E91E513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6861-7F4B-442A-9F03-CD8E59CA2066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459B-013A-4A73-A512-5FB689BF3144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469-2F2A-4F75-9AD7-5C89D3F1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972-D879-482D-A81F-4AE3ADCD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2B350-BB82-402C-858B-39253942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5A058-B86F-4D0C-94CE-AEBB8136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13EC3-D84C-4680-9980-DBE39FFC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AFEC5-28DD-45AD-AE3C-DBFAAED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836D3-A034-40FC-B8E1-7159E4D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8BD0B-593E-4B15-BBD9-C9D68598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103BC-2C3A-422B-8250-E5367882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A2EA5-AE6B-4C4B-AA75-A667863A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789D6-9D6F-4C5C-98ED-ED016CFF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64C37-2459-4BFA-B513-FE6CBF88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6BE-C06E-49D8-BFE4-A32533A5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04401-88AA-4146-823A-D3371346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C0C4D-F7F1-4CB7-82B0-338DA25D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B9440-EFA4-44F4-8FF9-BF5398F6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AC9E2-FFE7-443A-8674-C2E0D10A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DAE53-332B-4C7A-A806-5AB51431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14868-55A6-4E62-A42A-BBDEFDCF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7DFD6-7D72-4AB7-8B39-4959C00E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FF492-AE48-46ED-BB06-FF430DD7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7B277-56F0-4FA2-A379-D7E0F985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7DAA6-0CDE-489E-9800-3C71393D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D0B-9BFB-4C8F-8D0B-2C3EA431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976F8-B648-4BE8-BC84-8BDC94F3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C98D9-657D-421B-99B9-7F26BFE5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6FF1A-A405-4BCE-832B-CF3DAD3D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3830A-5AEE-4BAE-BE56-A5B700E8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E77C0-2A9D-46FF-BB5D-97378617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94637-1CC9-4249-AFEF-3596B40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1249D-A86A-4C9F-AFBE-B4AFF82E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37C45-B07A-4090-8FF8-DFF19EE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231FE-E41E-4C5B-80FB-0E48B06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6F0E3-1482-4DD4-84B3-2E658D5B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0D33-5628-4BC1-B008-6F09EFC3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DEF86-82B0-496E-90F2-4FF62E3C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03985-FF81-49BE-A2FA-3D7F63B8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969E4-EBBF-409E-ADE4-2B96B7F4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9E198-0F6C-43DC-9E44-0ABCF497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B8EE4-518A-48BF-B53B-EAAB2A48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4E460-62E9-4B90-9908-EA34F59D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C6609-A14C-4527-B36D-AC0C1336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CC9B7-1636-4EE7-B472-16DD6F95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96592-2F6E-4A32-AE62-CF814F59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DEFB3-B6EE-4295-BA7B-182F01C1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F7BC-C88D-45CC-B00A-9452DDFD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F0C9E-866D-42D5-960A-7E0E3BC9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DDA59-8D56-4A61-BA87-7251D74C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FF4FD-16EA-45F3-B59B-07390A30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FB98C-B5A4-486D-BDA2-B941948A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06CEE-9B8E-40C3-AE9C-186A4777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B569D-EEC0-4B83-948E-156C14AC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B769B-6D4F-44D4-9387-8D7D7369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9F489-F31F-42F8-B3DB-B93AD356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779CF-FE3E-4500-8821-677F777B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FA12B-979F-46A6-A4AD-FD9628DC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8820-0092-43F4-A9F1-35B8020A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C83FC-DDEB-41E9-8BE5-5435B48E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D82DD-10DE-40AC-AD5E-18421CD5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113BD-54FF-4710-A03D-C09A4F2C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7B46E-5D0E-4FA9-948B-D4E4F2CB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5C866-2DA2-446B-A653-68009EF7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96F2E-696A-49D2-BB25-A6CD5579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EB073-D88B-4385-BEC4-B78D17A1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40476-886A-4944-A923-65249CB2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0A76C-76EE-41AE-A76B-141DD04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6E1BC-DDB2-43D1-A00E-3D42A86D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A45B-1072-4055-A09C-8A441C1A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7073E-E993-4AE4-BFB5-D2FDC644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BAD80-B31B-4640-9DB3-FA4640D9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2D6E6-2B5F-4B98-80F5-D29C3E3E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80CD3-C164-476D-B22A-E109F56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E3FA7-8C11-4711-9B99-7861A4F8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49654-4B6C-4C46-831A-840E50EE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02B78-EC92-4F84-AECD-FA27DE41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D03B7-1A01-4CF2-96C1-CC43239C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C32FB-D4BC-47B6-BA99-C16B7C5B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6F0CC-EFF9-4CB6-AE17-4239F3E6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D0C4-9EA6-45B5-9F51-97E5540A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718D5-F042-49DC-A72C-4AF129E5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D5D91-E887-4926-AABB-D13AFC31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ED06C-9DA3-4FFC-B628-FBBAF0FA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0AB42-F08B-4CCA-A604-5DBEE83D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0ABDB-A97A-4EF7-88EC-1B9ABDF0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766A2-7947-422D-812B-CE98D681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6686E-C00B-4C46-BF14-6076B43E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3B378-F909-47B1-9C00-7F77EB89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6CB21-DB25-4D7C-866E-6B114FD6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9CEE6-7F49-4157-90E7-638E4047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0614-E2EA-4A6B-9A07-711EEE69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18C5F-EFCB-4356-AC65-155434E0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FDDE-9DC5-4F7B-8520-44CFDBC5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FEE-9393-473F-ACDE-FA5DA9E8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E4EC-7432-4EA6-BCD0-4D586B14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0E1D-10C0-41FA-A9B4-EB567CA8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8BD4-D6D4-4300-B822-BB2513B1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A549-8978-40AE-93B9-1E0D77AD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7D13-3FD5-4257-AF34-1888AD67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0535-6DD7-4796-B880-FF4E19DC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943A-5FDF-485E-A2EB-D61DE28C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4481-B1D0-4A0C-ADB5-9F711009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A5EE-2780-452C-A46E-43AE1628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862E-18A4-4893-A593-1AB5E395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783-9581-4CA7-AF72-D8D2438D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629A9-9786-4618-8D4E-E590C73F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F536E-91AB-4CB0-9B4E-C8A76817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2B50-A73A-4FAD-AD18-B4284918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00BE-9AD7-4D80-879F-8D81073B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7097-C0EB-4356-B518-89BAE9C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0B85F-D20C-4D23-84FB-EF1F90E7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1A67-0A40-422F-A727-B1F6E9A1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3FA38-342E-48AA-AB85-E4523C40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1A8B5-1B33-47CA-A7B7-F9AA55D9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33A2-0985-454E-85D2-79FF46E6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C68-68F9-4941-8429-57B97DB3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F5AD-9A11-44C4-B141-47BAF92F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8259-A075-4F8E-9E2C-0F9C63CC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129C9-2D71-4C40-B97C-5212A9EE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111A-6E81-4178-9E4F-05D0F809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B2369-A2AA-4DF9-AEF1-9D2062A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0CD19-71F4-4E70-9FFE-59DC1EA0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C78A-FE36-461E-9718-B710D989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46577-B9D6-49E4-8AFC-9BD4D9EC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1CBDF-6AF2-4FD2-8A93-7E55F07B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5EEB-1027-4FC4-9FD2-EA5661E1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F00-2F93-4530-8C6D-6DC5237F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496F-B7B6-43A0-AB98-91FD1BDC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8C76-FACF-4DC1-8304-9659683C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53F3D-F9AB-43FB-B302-9303B08E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BE8C3-F632-40B7-9C93-9EC49B3B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F6F82-C495-4C1F-B66C-15784A56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0D3A-9031-4E8A-A59D-CA9EFB43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ADA9E-46B7-40BF-A25D-58A7A003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5D0A2-575A-4373-B6DC-B37C3C75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1DAB5-AD90-478C-B086-684B1579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287A5-3CA7-40E1-901C-9499EB56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7F1-9B2E-4C56-8974-D5067EB3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A9792-C034-49DA-AEFD-BB7DD1F3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BF428-212B-453C-AABF-392080C2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27FBC-B011-46CD-A42F-FBC98B41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EDDD7-01D6-4D87-A7D8-C8439B96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23F7A-D42F-4D6D-B215-259D4B8B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671A5-C846-4736-9D6A-C07D8C6D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2703C-0723-4E68-813B-5F8583CB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AB052-98C8-4424-BC38-B6C9C7BA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8A949-F7A8-42F1-A751-699ED827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9012A-9550-4948-8BFC-AC7DDBBE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D59-A3C4-467C-8A55-82644779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EF027-9D33-43E6-8F34-12D8151C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B4C06-0E8F-4F6C-93CE-F083A549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9F72B-BE9A-4537-BAE0-288D3236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F8418-0EA3-4B08-9272-D6F90E63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16AAD-0FD6-4B15-8CC0-B7C443FD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5DFEB-EBF4-4918-98EF-A43DCCBF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F7658-C633-45EB-B546-384930AF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9B5C0-51AA-4560-A63F-0B0A740A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CC307-795C-4049-8B62-FFB487CA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CB12E-5F13-49FC-B861-8392FE9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404-D27C-46AC-B26A-E7A9DACD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17A06-3177-49EF-AA86-0189A25A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C3517-8333-4165-913B-E4DBC4D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B7F9D-2ECF-41F9-9FE6-4E3FFBA6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6F3CA-9F93-423A-A1A3-13E5D181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77156-2F01-47AD-B52E-AA1CDB29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56160-5AE6-40C5-9F95-BA44A0EA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A1A9A-0E4E-4AE1-8072-42220269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32B0E-35E0-4E6E-8D29-2C7095B8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C9045-968A-4366-A9F5-6D61CA05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9B38B-1A31-410A-A690-1EBAFD5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C39-B7AE-461B-9FA6-DA7D970F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F3F01-BEE3-4006-852C-77505834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BE3AC-5513-4BB8-B0AE-92661DE1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7A9E2-476C-4BA3-B4F7-DDE3D5D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8E036-CA24-44F8-AE71-DBD531CC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9A2A2-2951-4379-A10F-1D8C5FD4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2C62A-E537-4C1D-B6C4-CFB66848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8AF6E-0492-4FC0-BCCB-487C6E4A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4F444-A826-4308-AADE-C486D0F1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34689-B9B4-414B-B850-2D9C2C5E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C6939-CF6C-4155-B615-6ECDE5FC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E810-985E-41A1-BAA8-FDDE9934A9FD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FFE0-49F5-4192-BB86-386C9A2E6ABF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646B-03D2-4709-93EE-C060F260F225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FAB9-59F1-4DD8-9E45-786531FD76AA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8E49-E7E6-47BE-8FCA-6D2917B46CAC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2777760" y="6356520"/>
            <a:ext cx="356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ECB1-3DF2-467C-8E30-D78D5C64736E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3ECC-C832-4E37-B7D0-316426D63B54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2793960" y="6356520"/>
            <a:ext cx="35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06E5-7BA4-48DA-A4A1-8F97B4B3BA3A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9200" y="1639800"/>
            <a:ext cx="9144000" cy="346248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8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23FD-2B3B-4BBF-BC52-658A5946B3FC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2760840" y="6356520"/>
            <a:ext cx="362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82D9-B79F-4AF3-9319-DC24AE0D88E3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BF6D-5F56-437B-8480-F6438F8D3FA3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2768760" y="6356520"/>
            <a:ext cx="360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0282-84F0-4A47-A024-9D7D68A4E021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5AB2-2486-4F3D-BB6D-BA8817EFEEE7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2685960" y="6356520"/>
            <a:ext cx="37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BB70-9F49-4248-95C7-EA00C4E893E5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53EC-9097-444B-84E9-87A3421D222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78120" y="63565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159C-7C1D-4F28-B85F-440F1A589321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8A8A-B9D1-4E74-B34A-7FD825169279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C6C7-397A-42B0-B196-0E7D90B55678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480-E8A6-4E3F-A843-B657409684B7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CBD6-4A2F-4098-B36A-FA64294EF60A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717E-2B44-4DA6-98EC-7394B5E32FA0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BF9B-EB54-4D30-B73B-46D887912E7A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1249-994C-4B40-96BB-EF826D9C4B94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4B69-9DD6-499E-BE8D-26ADD9F9DA04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326-223A-4204-A421-AD020A6FE44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29E0-C3FA-461F-8214-6089A1BCE718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B4F8-A85E-4DB6-99A2-5C4D69DB9C72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5225-F9B2-4318-9CC3-BB9EE54C8549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1D30-EE85-487B-AFF4-C66101B1A087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0FF2-EB84-4739-AAFD-0B44A73406B1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9212-3398-4DF1-AAB3-4E864A772BB7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D8B8-8797-49D1-9077-269A721A82C0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itle 1"/>
          <p:cNvSpPr/>
          <p:nvPr/>
        </p:nvSpPr>
        <p:spPr>
          <a:xfrm>
            <a:off x="0" y="1882800"/>
            <a:ext cx="9144000" cy="216216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000000"/>
                </a:solidFill>
                <a:latin typeface="Calibri"/>
              </a:rPr>
              <a:t>South African Weather Service </a:t>
            </a: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2629080" y="4927680"/>
            <a:ext cx="387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Ms. Sam Linn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3F29-7F47-4AC9-B3CD-5BC39C61B6A2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B27C-85E3-4683-AB03-F3658CBCB5EC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35080" y="1211400"/>
          <a:ext cx="8493120" cy="5341680"/>
        </p:xfrm>
        <a:graphic>
          <a:graphicData uri="http://schemas.openxmlformats.org/drawingml/2006/table">
            <a:tbl>
              <a:tblPr/>
              <a:tblGrid>
                <a:gridCol w="6664320"/>
                <a:gridCol w="18288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A446-9E43-43FB-AE9F-1516E85DBC2A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6C49-F9F5-4C87-AA24-DA182C29B57A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1"/>
          <a:stretch/>
        </p:blipFill>
        <p:spPr>
          <a:xfrm>
            <a:off x="6967440" y="-6480"/>
            <a:ext cx="2183040" cy="29084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"/>
          <p:cNvPicPr/>
          <p:nvPr/>
        </p:nvPicPr>
        <p:blipFill>
          <a:blip r:embed="rId2"/>
          <a:stretch/>
        </p:blipFill>
        <p:spPr>
          <a:xfrm>
            <a:off x="6551640" y="2757600"/>
            <a:ext cx="2592360" cy="2576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267336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6" name="Picture 11" descr=""/>
          <p:cNvPicPr/>
          <p:nvPr/>
        </p:nvPicPr>
        <p:blipFill>
          <a:blip r:embed="rId4"/>
          <a:stretch/>
        </p:blipFill>
        <p:spPr>
          <a:xfrm>
            <a:off x="4959360" y="0"/>
            <a:ext cx="2008080" cy="2778120"/>
          </a:xfrm>
          <a:prstGeom prst="rect">
            <a:avLst/>
          </a:prstGeom>
          <a:ln w="0">
            <a:noFill/>
          </a:ln>
        </p:spPr>
      </p:pic>
      <p:pic>
        <p:nvPicPr>
          <p:cNvPr id="667" name="Content Placeholder 13" descr="Z:\OBSERVATIONS\METADATA\CLS-OBS-METADATA-REGIONS\EAST LONDON\ARS\STUTTERHEIM WRIGGLESWADE\Wriggleswade E to W.JPG"/>
          <p:cNvPicPr/>
          <p:nvPr/>
        </p:nvPicPr>
        <p:blipFill>
          <a:blip r:embed="rId5"/>
          <a:stretch/>
        </p:blipFill>
        <p:spPr>
          <a:xfrm>
            <a:off x="0" y="2887560"/>
            <a:ext cx="2871720" cy="2847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" descr=""/>
          <p:cNvPicPr/>
          <p:nvPr/>
        </p:nvPicPr>
        <p:blipFill>
          <a:blip r:embed="rId6"/>
          <a:stretch/>
        </p:blipFill>
        <p:spPr>
          <a:xfrm>
            <a:off x="2673360" y="0"/>
            <a:ext cx="2270160" cy="3170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C:\Users\samantha.linnerts\AppData\Local\Microsoft\Windows\Temporary Internet Files\Content.Word\north.jpg"/>
          <p:cNvPicPr/>
          <p:nvPr/>
        </p:nvPicPr>
        <p:blipFill>
          <a:blip r:embed="rId7"/>
          <a:stretch/>
        </p:blipFill>
        <p:spPr>
          <a:xfrm>
            <a:off x="2660760" y="2766960"/>
            <a:ext cx="38894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0CC2-F52D-4D2B-A342-11954B620B0D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9880-5543-4B39-A6F9-3168B84BC5A3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AUTOMATED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8" descr="Automated Stations.jpg"/>
          <p:cNvPicPr/>
          <p:nvPr/>
        </p:nvPicPr>
        <p:blipFill>
          <a:blip r:embed="rId1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7EBA-277F-4AA6-91AA-CEF1DEFC5B79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C336-C510-4595-BB83-0B362991F3AB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MANUAL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anual Stations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769B-6138-49EA-9E04-CB777170B21C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812F-3E17-46D6-9181-A0EFD07650F7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-OSCAR STATION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7" descr="SAWS VS OSCAR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D672-B00A-4F8A-AE4D-58885EDD47F0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51B5-CF6B-470C-847D-17C2D01D3FE6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2344680"/>
                <a:gridCol w="592200"/>
                <a:gridCol w="865080"/>
                <a:gridCol w="1525680"/>
                <a:gridCol w="615960"/>
                <a:gridCol w="1386000"/>
                <a:gridCol w="1814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TS Exchang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CAR Regis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Non-reporting/ 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A89-840B-4949-9EAB-A696A230E74F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951B-D6CC-44A2-8054-B5C6121DB0CE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7"/>
          <p:cNvSpPr/>
          <p:nvPr/>
        </p:nvSpPr>
        <p:spPr>
          <a:xfrm>
            <a:off x="401760" y="1301760"/>
            <a:ext cx="800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205 stations on OSCAR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86 Stations fully 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9 Non-reporting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SAWS plans to re-open the  some of the closed stations.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enerating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ome information is in hardcopy (To be digitiz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Not all information is available on the OSCAR Por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.g. Sensor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0760" y="27716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6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F9B4-5A9A-40A0-BDC0-38D3EB38A6DD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224F-22DA-4844-A3B8-8AF02278EB74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2394000" y="6319800"/>
            <a:ext cx="435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Templ ref: CRS–CC-PRES-TEMP-003.2</a:t>
            </a:r>
            <a:br>
              <a:rPr sz="1200"/>
            </a:br>
            <a:r>
              <a:rPr b="1" lang="pt-BR" sz="1200" spc="-1" strike="noStrike">
                <a:solidFill>
                  <a:srgbClr val="898989"/>
                </a:solidFill>
                <a:latin typeface="Arial"/>
              </a:rPr>
              <a:t>Doc Ref no:  IIS-PRES-BOARD INDUCTION-29 JUN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7T11:03:38Z</dcterms:created>
  <dc:creator>Heidel</dc:creator>
  <dc:description/>
  <dc:language>en-US</dc:language>
  <cp:lastModifiedBy>Grungehogna</cp:lastModifiedBy>
  <dcterms:modified xsi:type="dcterms:W3CDTF">2018-08-16T11:10:36Z</dcterms:modified>
  <cp:revision>54</cp:revision>
  <dc:subject/>
  <dc:title>PowerPoint Presentation</dc:title>
</cp:coreProperties>
</file>